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BDD-69DE-4204-B852-27DA61DA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A34-F91C-4FB0-9D5C-7086F03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9469-BC9C-4783-8C35-FA447EF0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B9713-9A49-450E-AF59-3E3915BD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AD724-1072-4EF2-9B75-38D1B26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D634D-4902-442A-9C1D-9BDC540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F57B-1560-4A74-AC5F-4E8E5A6B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C8B53-7D3E-4C66-B126-CC07C52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2A61F-C534-48D8-8773-9E4F40B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98543-B462-487F-B252-4772D7C4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1A268-15EA-4FE5-90D5-ED2C003D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D7A7-F9B3-4063-9A6A-973BF366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C13-1613-4AD7-A3F9-C5D43341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29E5-D027-4CCE-BC45-33B4466E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4843-ED99-4778-A3D9-47FE6495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E4AAC-CE56-435E-A697-76593208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90BD-7049-4343-B09A-210E3D8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F326-6AD1-4843-A824-C5B3D91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5950C-BA8D-44E8-99F9-81BB5F1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98847-06FE-4105-AAFA-07D8627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C0C9-AAB6-40AB-B092-7851827C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4A2DB-62C8-4D7E-AD65-B5B6C10E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96303-B87D-4241-8A82-B081AEB0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051-9F08-41A6-95CE-C2C4107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C77C5-D2F5-48AA-A120-937A59DF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36FB-C0E1-4181-8E3E-A9A40C1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CC69-B99B-423B-A89D-694FD3E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7A867-D0CB-48A3-B3C5-E1CCEDC0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135A4-4B8C-44CC-971F-A38138B9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7A7B4-24BA-4D4E-9A46-B9B6DF4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28AC8-0004-4DC4-B766-53F7AAF6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59775-AEE5-4888-93D6-6E7E0C8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5346-D27B-44E2-9D45-5F7A931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109A3-C7B0-4E33-97E7-7A1D927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A705-3979-4541-9134-2C6227D3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BD89D-01D7-4FF6-90F6-414AFBD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0A20-F12E-401F-ABAD-CD5C1572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DE7B-4441-4341-9A23-946C7D94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53675-E05D-4F78-87C2-A9AE5005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DF781-0267-463E-ADA1-F4FC3BB8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4D16C-5BDC-4B6B-9CE0-2E9F270A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48896-8CD4-4744-9248-9FF2C26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9ECE6-329B-42DB-8806-149EB3A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CD594-81F1-4126-B93B-750C5C73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0C7C-61A7-4EB5-B4E1-FA5DB7C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B4E1-88D2-44CA-91E0-799FE8F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E043-0D1C-4947-8628-FD4B2A1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DDD07-2D4C-4426-987C-56D5BC3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AD520-CC82-440D-A397-F1A70A1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D58B9-3CC2-4EAD-8CBF-87E0F8EC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01E50-1C73-4622-9E1C-3D2E1537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3078F-6E88-4741-B79F-1BF8FB61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47101-B247-4006-9E33-4107B8C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B1C13-1EDA-4CE0-8FA3-6D0B8659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06E5E-A372-45C4-AF1E-9E5AA2D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43C1A-BF3D-4C39-A1BE-91603617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C935-5623-4B73-AE23-6A66260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1D4FB-D65D-4A8A-A67D-D0BCDE3D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E02B6-3E12-4B8B-9FE4-D1FEC25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88C4D-3B04-4F92-8183-024CB77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F207F-BE3F-480F-A28B-6F26B40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1C1D5-D60E-4062-8990-21B66BFA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C1167-F5E8-4405-AE62-B5FAA083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97A77-BE1A-4ECB-B659-AA2D00C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7E6A0-B85F-4907-8A98-6458E26A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91143-6468-4F25-948D-4084C5E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F6C7B-C6F3-4178-9240-75AC806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310B-99D5-4E4D-B928-4B70E112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E7A9D-CDAA-43DE-B31F-1EE1CF8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C7EF2-9B2D-477C-86FD-07EE6293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88042-0DD9-4DD2-BD0E-66CD1A2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A514A-1F6D-4E1E-800A-F2EF861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6E962-2ACE-4EFA-BED4-51FB587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1D0F7-25E1-4020-84A1-7CD80FE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D4D47-2B75-4B6D-B0C1-B5D56FD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178F3-48D3-4348-A98C-4C762EE7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D061E-034A-4D20-B4CA-4C7C7E1E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126A5-8FA5-4523-899A-42989049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C1C9-B5C9-48A5-87A2-B0DCE24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69E0F-DD9E-4B34-AB0D-0DB2B29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E8B65-1132-4255-B3A5-CA9E339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269F8-5611-48B7-A28D-8EE62BB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FA08F-4261-4AD3-8E36-045D9B9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BFB17-9DDA-4EE2-A7DC-5CDC3BDF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75A8F-01C4-4025-8B58-1AE9EBB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2761D-C346-4B71-84C8-FB005B8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E9945-3D1B-4A7B-9B82-2A85413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17FD6-88FE-4BCD-B9E5-3E715A8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FE4AE-A285-4591-9270-205BCF7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756C-A231-4CFB-84A5-55EF226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AE32E-3129-4F74-BDAF-FA6440CD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A60FD-6DD5-4475-9442-E36FC1A9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169CD-3CF8-4D86-A5EA-048AB46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A4A26-1E9B-4A49-B540-EF0A5A28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CEDF2-5B29-472D-A1C8-AADF7EC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C0723-B515-4560-BEFB-303B33A6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F4F48-A238-40B2-A7DB-CAF5FCE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7577F-F3BC-4BDE-8AF5-FBA151E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D7CFB-96FD-472E-BD06-5C9CED6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BD778-9F4D-4EAE-BB5A-8FA1FB5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F11-C36D-41BE-BF4D-7210A7D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44621-D1AA-4203-96B5-C1FF131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5A42E-406D-44DD-B986-3E2BF6DA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D3FB4-EE99-4E15-8F4E-49CCC550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8C2B7-7C70-4347-9507-DC2ECF4D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4A64B-8F9F-492D-B37D-738DB53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D9AC9-A198-474A-AEDD-61758EB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5F22B-7099-41D5-9DCD-81F9D8D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CC570-48E6-4C03-9CCF-0BBCA774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461A5-A81D-4882-A509-42CAF4F4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49A92-690B-44BF-8C39-6302A2A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DBD-9071-4CD9-8949-0F17218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85A-6228-4B5A-84E9-9FE54C7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FAA9B-A899-409C-A2EA-B6144AB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E8736-C5C1-4AF1-B96E-A61B005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35FEF-8447-40B6-9A30-22E25C7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23603-0C2A-45E7-9712-080AB04B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348AD-A365-4F53-8C27-7D1100EC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07AF2-D800-4C9C-BE1E-9A360CDC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1417B-808F-4793-81A2-531228F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62F44-C10A-454A-B7EA-7067DC4C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D0471-C976-4BE3-AC51-2F965E0A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0E0EB-11DA-47DD-89CC-236547B3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928-4127-4E9F-A42D-5BE6CB3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0A0A5-2A35-4EEF-9505-B5AA7C7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F95DA-57DD-4219-B1CB-A1A9662C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DA1C2-05E1-4333-A8EB-0F8B769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051A1-8A93-44DB-9331-494E5BC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021C5-E7EF-48AF-A658-5DACA31B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C935A-AAD9-45B2-9DAD-5260175E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4D5A2-8ACF-4AA8-A737-18809DD1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6926B-A1FC-4BC7-A20D-8CBA5E5D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07E00-0B38-4E86-AB22-FFB7330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8130B-8F69-40FA-A46C-7B50EFF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047-1E54-48B0-89AE-AC2563AD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46DBC-E842-4333-A152-4A55E36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BB467-5958-41AB-848E-B360AD6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14F82-02AC-4EB5-96C5-6C13FFB4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39866-3DEC-4867-BF74-0E453A1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E3A46-97F5-4DC5-AEDE-A81E716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55463-0253-4CB1-8A1B-3FA8B95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AB9C2-1AFB-4567-AB12-76658F9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83B55-157D-4A19-9D93-30A73C39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F7C27-BCBF-431B-B075-FB139D24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A2E1E-CD28-4052-A03A-25197564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A5FE-86E1-4CB5-B49C-910D2084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C62E7-110E-472B-9D80-296867A0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C4DDA-58E0-41EB-9429-434E4E4B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5FB8A-8782-408E-8ED2-A18B63B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FCF7F-C424-4CA3-83E3-9606377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5E1D8C-E31C-41A2-B9A4-B076CD5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7ACC4-EACA-44A6-B9EE-EEC32E9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63A00-00D5-4357-87EF-6485EA4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FC279-C4A5-49F1-A9D2-AA7F152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3A620-E06B-4015-B2D5-B18346A0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6C988-3842-4B14-980F-9913A1F9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993-310B-4348-A0AB-ACD378D1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3942C-7D99-452A-B618-84AC77DF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EBC27-5E86-48B6-B5EC-173A30EF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F1597-2394-4C48-81E4-02D2962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7BBDA-CB06-4DA7-A92E-EBD4EE02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DD35F-AC84-44FE-8587-BEBDE14B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966C0-4EB7-4CB6-A1CF-0B8E008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45AEB-43AE-4058-B8D0-9803B22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2B200-87A0-4050-94BE-8BF4F95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86167-9A7F-4F51-97F9-5C48A64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76846-652F-4DCA-AC83-EAF9746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DCF6-02E3-4F36-B8FD-77EEC634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818E3-A419-469E-8510-23F85A5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D2132-8E25-4E49-99BD-A1BC1360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A7744-8214-436C-98E7-51F2FCF5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23ED-5895-4DAB-B6CF-5C2F1F7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85E4-4215-468B-8018-0BAEACB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5706-BF0F-4794-A65F-BD94899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1404-D172-4DC8-AE0D-4E386BD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D2B-0721-494D-A970-F6941705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3501-4CA0-4A68-860C-B5816B3A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08D9-22C1-49F0-8470-765385D4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B26D-B387-4F1C-BF06-B61A78D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6138-EB76-4138-9F79-92415D6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2306-F720-4904-91C0-C9F0E742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FFFC-5D29-4768-A6F5-83FF376F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DED6-ECC2-49A3-8EB7-63D041E4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B4FB-BEAF-47A5-8ACF-A6E127B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6348-DA5D-4FD5-85F6-E958428D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CA47-E138-451A-994F-87633621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D49-FB62-45F8-A535-A0F91D2C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1BD8-931C-45B2-8555-73B6BA4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7CBC-61C2-4047-BEE4-1B996FB7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6D79-33C6-4A10-AC05-AC71666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9A6A-CA5A-48EC-81BB-7F2F3F4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63C4-F8AE-4708-8BEC-E79BB50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C61C-0176-4EED-AE34-EAB4170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F5A6B-1593-4A5D-85E8-5F9987F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6227-9152-41A2-B1A2-F72EACC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5301-6681-4D90-9074-2E728E6D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DAE4-1134-4E6F-ACB5-AFA9CE36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602-EA3A-447D-BF6A-661C462C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54769-74E1-4F68-8B59-130F08F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4324-5C9D-4878-80E0-5A40C42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A524-B413-4411-9E78-6A3880E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E85D-B0FC-4BE9-8558-04C6DC0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A559-09BC-4C0F-B53A-5565A42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3D99-53C9-4153-81DF-0DBE01B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5F74-2BE4-404B-B42C-0A39741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1F06-A348-4816-B0F2-6D13EF57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B67F-BF93-499B-A3A8-4AB84A03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8EE9-92FC-4035-8427-B20F3321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C48-5FDB-4B5D-9709-883CFEE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0D3E-7E1C-4D06-B584-C3CFB7DD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CF98-F916-4FB7-A294-C9A6DD97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F789-3D07-43F3-B909-78E71CD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A663-EDBE-4D2A-8B7C-D01FD11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E485-1934-415D-8E9A-A4D6C79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B09A-71EB-4AC2-92CC-44ED690D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99CD-E425-415D-B37E-4AA7121A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597E-A76C-40A5-8718-081577B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98DC-9BC3-41EC-96BD-83D0B11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829F-65C5-4180-9C4C-A3D2AB0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E60-0A71-4400-9562-662F86C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71F8-73A3-4F73-8D37-CE7D748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FC07-2738-4003-A91C-6B62555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B259-1608-41CA-8E42-33CCC861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2315-61FF-4145-9F1C-491428C3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B05E-DEC5-49E3-86C8-A3B9AFB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82B1-86C2-4C7D-A8FE-59287B1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EBF2-1EC4-44F7-9342-05E67D3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9B54-332B-4B75-B8CD-DFA250F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583E-4D71-4CFE-A732-39B3BFD4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780D-14E4-4028-B27B-35D6A52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1BB-CD21-4413-9F56-DA832A0B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E9987-5010-4A3D-8F1D-D9B3264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FD14-349E-4380-A751-CF65394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04436-1615-47DF-8BF3-94149C1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C55C-112C-4AAE-836E-FA57A4B9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FA9FB-3D74-4728-98C3-94AAADC3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4245-196A-4BE8-99C3-59FA8AA5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8182-8521-41D1-939A-DF3BCB59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786D6-5C60-4B04-ABA2-D55A7CB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4F27-BD4B-4AC7-9D34-3F36448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57794-CD89-4B2B-A8C4-8EF77D0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B3F-AD84-4483-BB17-7AF02C2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7B98-557E-4064-9FB9-1D6EC07E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51AE-20E8-4C8E-9DA1-E1CB270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F533-4C10-4ED8-B2C6-457167C8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E778-A06A-4DE2-844E-917EE75B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8525-9842-47DA-8736-1057B064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44A1-9A95-452D-A4CA-C245174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3CA9-286A-44A7-A09F-E64B10D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F22BE-26B4-4A07-BBF0-AD77A9DB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D3ACD-1FFA-4702-8BEF-A28AAC76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B963E-15B7-4972-BF27-C2FA32E1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297-B4D7-4086-A3D0-41E77463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CA7-BC4F-4E5B-87A4-126D88145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D05-23D6-42E2-A9E2-4282B2498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049-5C90-4C43-B121-D48148A55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E07-CBFC-4424-9796-E01072A7D9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9799-5039-4F3F-88DC-417D96E12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781-6172-44E1-9310-85E44A4143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CE6-3E31-403A-B6BD-BA03EE551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90D-A387-425F-B373-019A7462A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254-5BE4-454E-926D-DCD1F24A5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D68-1D26-431F-8EC7-932D014F5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E76-6E26-44D0-B141-E05B5C809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0A1-4EFB-4A62-8C7F-18415F833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137A-09F6-467E-99FE-EC37188D6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95D-3535-4B03-BB38-ED0154DA9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C8E3-5A76-40B7-93A7-EF403B1AE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105A-5876-4DE2-AA0A-8F3D870FB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B63-C80C-4BF7-8523-0AB69F0F7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C9C9-34D6-41BC-85AD-FC65804D1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62D-4E9E-4199-AD38-B09298464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F7B-6C2F-4DC5-9B1F-E4A0CF10D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17C7-C6BA-4A5C-B4A8-9C4872E4FB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134C-3456-4BE3-80BD-4592C2245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4FD-8DC4-4EA7-8B45-4C5B8FDEF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7CC-262D-436D-AE04-BCFFC7D79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109F-6694-4DAA-9125-0F97323E7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1AF3-1AFF-4FFF-A700-E972A79E6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A2F-86DB-4FD5-8B0E-F4ED0D6E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4CE-DA37-410A-AF89-791DA0D6E7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39EF-8772-4CDA-A861-5938D5EF2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845C-F681-4390-BF5E-C44F77747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C00-BE0C-4274-880C-793DCB4AA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FED-FC39-415B-B79C-41E2BFD92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E25-D2D0-4D32-8B29-79E53682F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AE3-3375-4123-9192-20218AE05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677-A793-4120-A1C8-3AE4D513F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2479-CA9D-4855-832E-960C73745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C198-B9B2-4F87-9609-2D20C4B37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A3C-601D-4947-87CB-1E4C62AC5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798-C935-4D74-8275-819850B40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844560" y="2987640"/>
            <a:ext cx="71834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050920" y="826920"/>
            <a:ext cx="4681800" cy="6007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00200" y="1214280"/>
            <a:ext cx="4529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61960" y="1228680"/>
            <a:ext cx="8020080" cy="4400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1763640" y="2630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1763640" y="320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4"/>
          <a:stretch/>
        </p:blipFill>
        <p:spPr>
          <a:xfrm>
            <a:off x="1763640" y="443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5"/>
          <a:stretch/>
        </p:blipFill>
        <p:spPr>
          <a:xfrm>
            <a:off x="1763640" y="5084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48880" cy="5486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3"/>
          <a:stretch/>
        </p:blipFill>
        <p:spPr>
          <a:xfrm>
            <a:off x="1763640" y="4214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900000" y="1503360"/>
            <a:ext cx="7277040" cy="1666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812880" y="3500280"/>
            <a:ext cx="4838760" cy="2381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3" descr=""/>
          <p:cNvPicPr/>
          <p:nvPr/>
        </p:nvPicPr>
        <p:blipFill>
          <a:blip r:embed="rId1"/>
          <a:stretch/>
        </p:blipFill>
        <p:spPr>
          <a:xfrm>
            <a:off x="1038240" y="2243160"/>
            <a:ext cx="7067520" cy="2371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00040" y="961920"/>
            <a:ext cx="8143920" cy="5562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692360" y="231768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692360" y="354636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1692360" y="5367240"/>
            <a:ext cx="691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5"/>
          <a:stretch/>
        </p:blipFill>
        <p:spPr>
          <a:xfrm>
            <a:off x="1692360" y="5985000"/>
            <a:ext cx="691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519120" y="942840"/>
            <a:ext cx="8105760" cy="5581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5003640" y="6021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861840" y="1038240"/>
            <a:ext cx="7420320" cy="483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4140360" y="350028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4140360" y="537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2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